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BC0D-B5EA-4525-AE3F-0C96D47D3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0747-413F-491F-921A-1CB17DE946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069A-7D06-437C-B75F-9C56A592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3BD3-094B-4FAD-A5B5-1684FC18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A8B8-256D-412A-AFD8-9FF55455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55BC-AC8D-4E56-95AA-6B8FB5F3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DE84-572E-407D-8131-E38479B9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BD1E-39DF-4B81-91AB-462C4F28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B476-8A6C-41D1-96B3-AE821E35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C2A3-0164-4D88-80A7-CD9D6BD8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A9A1-ABEA-41DA-AF78-1DD49481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B885-6018-4DDF-939A-7487623B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AD3C-C202-41CF-B04C-524664A7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6AD-7FE2-4A52-A5BA-A03FBD58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CE40-EEA4-4EB7-878D-AAFE1B30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FF1E-C2E6-48A0-9E13-A1855865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74AA-6DAA-4906-93CD-B8E7CA27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EB10-CC34-4D72-87E3-05399873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2D78-C36A-4C38-A232-17704BD8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B8E6-4A6E-4415-A2B7-A19B8CAC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D920-98DA-49EA-885A-8B52B366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4C75-0A50-4D1B-9224-0DB8D029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2A38-1A50-4E98-92B7-7921CA86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4324-E2BB-4D4B-A7BF-2BD45841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9DBB-D106-43C7-8696-002E7CE4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39EF-574F-4410-A367-39AF807F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8900-9A9F-47EB-B269-F156AA4F32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9576-D6E9-4852-8ACB-4432C1B7CC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event_214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ultural Diversity in German Speaking Countrie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ltural Assimilation in German Speaking Coun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: Brian Beck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ncsl.org/IssuesResearch/Immigration/ImmigrantPolicyProjectRecentImmigrationDevel/tabid/13140/Default.asp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jstor.org/pss/21723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bss.sfsu.edu/polisci/documents/Impacts%20of%20Assimulation%20Concepts%20of%20Citizenship%20in%20Germany.pd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ag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ww.deseretnews.com/photos/midres/web-416875.jp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ww.spiegel.de/img/0,1020,1408830,00.jp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tthewbrunwasser.com/wp-content/uploads/2010.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ours.360wichita.com/16240/event_21417.jp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s:/.../1284944661/Map_1914_WWI_Alliances.jp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ist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ajority of post-WWII immigrants were Russian Jew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rmany’s original policy was to form a unified German people through a similar German cult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imilation became difficult after the 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entury warfare, due to changes in territorial bord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10" descr="map36wii"/>
          <p:cNvPicPr/>
          <p:nvPr/>
        </p:nvPicPr>
        <p:blipFill>
          <a:blip r:embed="rId1"/>
          <a:stretch/>
        </p:blipFill>
        <p:spPr>
          <a:xfrm>
            <a:off x="4648320" y="1600200"/>
            <a:ext cx="4057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istory (cont.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ederal Expellee and Refugee Law of 1953 ensured only ethnic Germans were allowed back in German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debated whether or not German speaking countries should be unified, and has been since the Holy Roman Empire’s cre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l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ently, Turkish Muslims are the largest influx of people into Germany, due to their need for job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y resent Germany’s immigration policy for it tries to force Muslim’s to adopt German culture, which they don’t wa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y Turk’s forego the immigration process by participating as “guest workers”, and after a certain amount of time gaining citizenship for themselves and their famili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43430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6" descr="0,1020,1408830,00"/>
          <p:cNvPicPr/>
          <p:nvPr/>
        </p:nvPicPr>
        <p:blipFill>
          <a:blip r:embed="rId1"/>
          <a:stretch/>
        </p:blipFill>
        <p:spPr>
          <a:xfrm>
            <a:off x="1219320" y="4343400"/>
            <a:ext cx="209556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german-turks-with-flag"/>
          <p:cNvPicPr/>
          <p:nvPr/>
        </p:nvPicPr>
        <p:blipFill>
          <a:blip r:embed="rId2"/>
          <a:stretch/>
        </p:blipFill>
        <p:spPr>
          <a:xfrm>
            <a:off x="4419720" y="4343400"/>
            <a:ext cx="4171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ltures (cont.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WWII, Russian Jews were the major immigrants into Germany in an attempt to escape communist discrimin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, Judaism is one of Germany’s primary religions, and the Jewish people have become a major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rrent German Polic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January of 2001, Germany created a “birthright policy”, which gave citizenship to those born in the count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ly of that year, Germany instituted a green card policy which immediately brought about 9,000 IT specialists to German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8" descr="German Chancellor Angela Merkel reads files at the beginning the weekly cabinet meeting at the chancellery in Berlin, Germany, Wednesday, March 23, 2011. 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rrent German Policies (cont.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rman immigration policies revolve around Labor Migrants, Asylum Seekers, Ethnic Germans, and Contingent Refuge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rman law follows the original edict of the Geneva Convention, which provides safety to foreign refuge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December of 2000, Germany created an employment ban on asylum seekers which limits their work to 12 months and that only if no German citizen is available to take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religious people are currently immigrating to German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are Germans responding to the increase in foreign citizen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slamic People or Turkish Musli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rmans are opposed to the number of foreigners in German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3:23:19Z</dcterms:created>
  <dc:creator>SCSadmin</dc:creator>
  <dc:description/>
  <dc:language>en-US</dc:language>
  <cp:lastModifiedBy>User</cp:lastModifiedBy>
  <dcterms:modified xsi:type="dcterms:W3CDTF">2011-09-10T11:54:18Z</dcterms:modified>
  <cp:revision>6</cp:revision>
  <dc:subject/>
  <dc:title>Cultural Diversity in German Speaking Countries</dc:title>
</cp:coreProperties>
</file>